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B312-AF33-409E-9742-F08A101AD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9AA4-AC0F-4A4C-8F98-59DD44DBC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7665EF-C25A-45E3-9C91-FDC699B33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E6CEC9-3841-4C71-BBDA-1FB0BEF05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355AFF-4A26-46B6-98BF-AB1EF6B59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7A906B-DF4E-476D-AE8D-D0257F8B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36EC33-9792-4305-9975-3E501776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A0C93E-FD9A-4CCE-A874-313D7E32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9C4692-FEC8-4422-8554-40CC949CD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05363F-2787-4843-8521-3C1452C6F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E270FD-7649-4980-9B57-7B006E993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E1ECDAB-035A-4C2A-8FD0-A487E2FC2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251D-9567-461E-A9EB-7D6DB44F7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09AC71F-850B-4961-BBD8-F94DA3D14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F3D183F-5F36-48E9-A2FA-D7949A026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E68F392-51D9-48E1-89F3-870AE9CF3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30172D0-843E-4EE4-9986-92D72458B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D637FD2-556D-4FE4-A4E5-FAF171B9F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01B0D0D-D129-410A-86A2-43C32B77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C6F1B00-F2A9-4465-B779-ECF1310B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3D56606-8233-469D-BE42-8168385A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7D2B079-F51B-4000-993C-7439E73C2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35AD388-2306-47A5-A1E6-8B3049BDE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6527-3B56-4C4F-8EC4-514C90F9F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32C4585-9631-45C6-968E-DC86D1114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F3A7B5-4662-4F31-B7A8-DD95538D0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38689B-D1BC-4CE3-9578-6A36FF424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B8D8BB-E731-4E16-B43D-6F7087795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687839-80AA-4D24-947A-3F578942A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8A0842-0251-4D04-8418-71CC2F3A6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A33ECC-CC65-49EB-8761-F3C3A708B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718780-7DD7-40B2-B7D8-9F4708CD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8DD716-EF0D-467A-A9EE-5B0F1D9D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A3FC22-8D81-477F-9AB2-AF2C77F2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DAE37-C8D1-46A4-B5C2-0D088FBD5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98A65A-BE8E-4023-8072-E12C3B12D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B4C8AA-1C50-41C2-9353-A7A9E5EC8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B0BCD6-8B9B-4B47-9271-A4B65BB15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F7F46F-4C7F-4F40-B2CD-0C58348A4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1ECCDE-081C-43F5-8F6A-2AB487707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51FF5D-67C7-4701-AB74-BBF99792F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0CC374-EB84-4AD1-9174-3C010DBBE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6C655E-097D-472C-B805-8965F1476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051DD4-33B0-4BEF-AE62-8BD817A90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6DC609-DDBD-415A-BDD8-C9E1B489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C2B28-91AB-486F-B5FE-3407BE426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6E9E10-8767-40A5-BB80-AFC43A71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9BE946-775C-4933-AEB9-89C79977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4E7680-EDEB-4A27-B9F7-8D162CD1E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74502A-BA79-4D4E-85B3-08C4C12BD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4596F7-157C-4BB8-BD68-4C38F4BB8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FFDB9-8E17-4926-9A76-163FFDDC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7C376-188D-432C-8B3B-B60A78EAB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84788-4645-403F-A7DA-6F4CECF2C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9F1CF-9A42-4B0D-A5A8-D0B9398E5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D5290-03A9-43B7-A948-A8466E95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85E9-F360-4FB6-9EF5-8D0372592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49F87-CA04-4916-B1C8-2B3C90A4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54193-F6CC-476F-B074-C336F452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C1FD5-E997-48F0-ACED-D971BEB3F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8D116-F6E1-4C57-8D82-43C84C57C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69679-0EB7-4A38-AB8D-33975D3DD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29132-F89D-46FB-AC02-E9B01B137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3D93F-8232-4A32-A7FB-FA6C91B77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CF0CC-2A93-430A-8B30-C52A5475F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7AE94-C589-4831-9C7F-C487E09DC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5E8C8-D3FF-4D83-94E3-7289A7AB8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A780-66F0-45C9-A3AF-EEB865233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CE98F-71C1-4654-BCC4-BF4EC368F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3C91E-A0F2-41D0-A475-93128ACB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7D554-00D9-4603-86AD-52607310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4E9A5-3661-4B88-809D-005C5794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76B4C-AA3C-470A-97C7-C92E7F6B5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C4FAA-3FAB-426D-B999-F0CEAC298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EB069-4B1C-4208-ABAF-8473372CF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C6AE2-5553-4834-B9C2-DFE16BB9E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C77DA-0DDD-4FDD-91F5-0211EBCAA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5AF1B-C95D-4942-9A09-6F05B753C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5FA9-D254-49D8-855E-4543ACF19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EF978-41DB-469E-B3CF-6894B3A12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6361E-B10A-4C9D-B7F6-0A07F65E8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6FD1F-E321-49A8-AA12-258827D21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9680B-2054-48BC-97BF-A6EB9A73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6E464-FDD5-4009-BF35-CDDFE863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527B6-6A6D-4D2A-A632-3F5590AD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44A45-F1FB-4091-A047-409FC78CA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0458E-7D31-4071-BDE7-478BC3F9A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3DE36-716C-4709-8AC1-E45612A92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EEDCFE-E725-454F-A591-CB2662A02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E3ED-E149-4F4B-8D40-BAF07918E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98E729-F871-444C-96EF-D19C32D5E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EFBD9E-44DF-4E36-B218-E0CCF3A16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A0F6C0-3396-4360-8B48-7BF310341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205C95-9B91-4C09-94D9-6BF9A1BBD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47B3AE-E02F-452D-B0F5-16735DA73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E3AFB7-DBEC-444B-BC70-A7BA664E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18DAF3-E3B5-4303-B147-38E64F2F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6AE105-D2C3-43EE-8C7E-93E376F1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C7F8CB-0E62-4E82-A31F-1FEA33B46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CBE70E-076D-476A-ABF0-96B353749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5F49-997B-49F1-997C-1B0BD62EE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B0FFAC-AD75-47CC-A9A6-7FB301028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2FA233-8E0C-4CF8-A4FF-4D5080DCD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B91B4-E396-47E6-BA3A-40F9432F1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A4DA3-5FE5-488B-BEDF-C68BBECA8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0DD23-455C-4260-A6C6-8B7C9FD48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63DB0-CFDA-4382-8BB0-64A5608CA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ED1D3-9F42-4915-BD4F-418A4684D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2C762-48BB-44E5-A14D-CEAC5025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4F493-218E-4BAF-B8D0-E9F50536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E40C2-9614-49C5-A3CA-830FA81E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C7BD-ABA5-42C7-A911-1DD50802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14ACC-D666-495E-A629-93C17851F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48948-1E3C-4105-BC54-0AE4CD35B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7BD0E-43B9-4A91-A394-58E5B8F44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44AD2-9E18-4D63-AEA8-2EC99E57C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D06FB-117C-4273-9B34-624CB9BBC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1C012-0971-4E81-BDE2-041DB6DB6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365F61-C087-4F4F-84DD-37BF22CA4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DF995E-5F33-4448-81AF-9F84D2DDB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B6A8E3-A65F-4CF2-89E9-C57B82FF5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774E32-EA9D-4AC4-8DC9-70FBA2B6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6C29-DF82-4AAF-9C03-B1DF36F7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A6CEB3-C2DB-4731-B6B8-910AC0FA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006EA-BD84-4B72-B659-EC1EE98F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13B61F-EC7F-46D8-A048-77B6F0E0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FED50-6A70-4995-B88B-D2DA81ACA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6509B-17AD-442A-8657-6B19BE532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1A623B-CAA1-4445-B4E3-3917EDBBF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2B8F1E-9D2E-453F-AA4C-E9A8F67C4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B9D317-71CE-41F8-A5D8-88433C7A5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9210B1-5A0B-4725-81CD-53EC77E23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7C0D02-76F9-4E5F-B958-BECD7A64B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8636-7F7A-4AC1-96D5-D61A2F05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20A6C2-7986-47FC-BD43-90D39777F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6A160F-2DA0-4CEE-B1C4-608E6C6B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88E5A0-D050-4497-BF3E-FC2D668B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556208-5BB4-4360-BDBF-301F2EE7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5472EB-F90B-4356-A2E7-5CA5F588E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8428C7-6206-4599-A558-8FAA32630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EA1306-FE0E-4ECD-9388-681C9780F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8EC32F-16B5-47F5-8C63-5B8B60805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AB79D7-1578-46F5-8B5D-1211E67B4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B98706-0CD8-47E3-AF53-EC0A6E679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28C7C-60B0-4C5F-A2B2-0862DFF95835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B34D7-E929-4082-BC4F-369026D76CD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47A12-F9C0-4977-A745-C11561AB9DF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E4571-7C31-44E2-B5D0-9AA8ABD4A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9D3D9-3C08-4A63-85B5-22A0610A34D5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C248A-2EBB-45DD-A3C2-BE3BF89AE3D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27982-F5E6-474A-8423-57DC75543372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D7B8D-7BE3-4551-88B1-D31792ABB78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54F7-F612-44A2-AF48-1EDC153C30C8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7398E-D708-4599-93EB-91EE5EC8FAF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8CECB-3681-4D81-A1C3-AF274F73470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8B42C-5881-4BD9-9581-EC1895D011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40ECE-B05C-48B2-A6CC-A7BF393688F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CF567-5A56-4BA8-8DAB-61B88D6D21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BDA75-CD40-4E41-AA02-63528D51491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5C274-D3C1-4CBB-891B-1D7084A08BA0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E2885-8291-42DE-BBEC-52FC05DA2B89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4C143-B02A-4889-B3B9-8DC15860E87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66092-E507-48B1-9112-BD1EE0A2E070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CDD4-CFA3-4600-AFC9-A1A0FA3B6C8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9C3E0-0E8F-4B67-A6A3-324FD352402B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70A48-3826-4549-9D26-C6AC2A82285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5A8CD-B20A-4558-8167-197EC3A2034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29DDF-99F9-4B89-9EFA-BB4FE9D05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7D56-057E-460D-B29F-0F3F112BC17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79FED7-90FC-4735-918B-C7D39AFBFED2}" type="datetime1">
              <a:rPr lang="en-US"/>
              <a:t>07/29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97EDB-250F-4108-B49C-21FF1436184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3F6F55D5-C9CD-4570-8602-D972234ED189}" type="datetime1">
              <a:rPr lang="en-US"/>
              <a:t>07/29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w)" to="(-#ppt_w*2)">
                                      <p:cBhvr additive="repl">
                                        <p:cTn id="121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2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30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F750A-4EE5-4C9E-A17F-CF5F5B6BF1FF}" type="slidenum">
              <a:t>3</a:t>
            </a:fld>
          </a:p>
        </p:txBody>
      </p:sp>
    </p:spTree>
  </p:cSld>
  <p:transition>
    <p:comb dir="horz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0"/>
                            </p:stCondLst>
                            <p:childTnLst>
                              <p:par>
                                <p:cTn id="19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FE6532-46BD-41C4-A71E-56AC704B2A25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D129E6C3-C2F9-4091-971C-F7973071CD37}" type="datetime1">
              <a:rPr lang="en-US"/>
              <a:t>07/29/26</a:t>
            </a:fld>
          </a:p>
        </p:txBody>
      </p:sp>
    </p:spTree>
  </p:cSld>
  <p:transition>
    <p:wedge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8000"/>
                            </p:stCondLst>
                            <p:childTnLst>
                              <p:par>
                                <p:cTn id="2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B7322F-B342-4D01-A402-BC0A3CBB1B1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E641B50E-88C7-4D44-9851-C2AC624B56C3}" type="datetime1">
              <a:rPr lang="en-US"/>
              <a:t>07/29/26</a:t>
            </a:fld>
          </a:p>
        </p:txBody>
      </p:sp>
    </p:spTree>
  </p:cSld>
  <p:transition>
    <p:wipe dir="d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0"/>
                            </p:stCondLst>
                            <p:childTnLst>
                              <p:par>
                                <p:cTn id="2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6000"/>
                            </p:stCondLst>
                            <p:childTnLst>
                              <p:par>
                                <p:cTn id="30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7000"/>
                            </p:stCondLst>
                            <p:childTnLst>
                              <p:par>
                                <p:cTn id="3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8000"/>
                            </p:stCondLst>
                            <p:childTnLst>
                              <p:par>
                                <p:cTn id="3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9000"/>
                            </p:stCondLst>
                            <p:childTnLst>
                              <p:par>
                                <p:cTn id="3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2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B7E0DC-AE38-4E80-B332-8DCFBBF229E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1BD059D6-50FB-44DA-90E8-65ECDE805A69}" type="datetime1">
              <a:rPr lang="en-US"/>
              <a:t>07/29/26</a:t>
            </a:fld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9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7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8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6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7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