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5BEB-3DC7-4CD2-AFC0-173758CDF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4FEE-F855-4A03-9247-81A41A49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9A9DC-8BFC-4F62-91F8-BE670CC8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810D5-4B03-4D24-B46E-B3B706E6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6A782-0FB5-49A6-A167-588A94C8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94979-0309-4BDA-AA4E-B523B6A5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90864-7FBF-40CC-B89F-7D481C43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AF8068-EAB9-41DF-B5D7-B339F2EE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84F64-3A47-4570-BB92-E98D8EE8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D496D-2B30-432B-AEEF-D94A4E968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8E7AE-8844-4065-913C-0715E2D9C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130CC3-992C-4A3A-B923-2970B6755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3AA1-AD89-423C-B9F4-002716AD8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DB25A4-0A55-4EF5-B8A5-0DE162C7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D1DA2D-EAD2-49E2-A1B5-3C04E5EA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E554BF-EDC1-4918-A0B5-FBECB9A2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CFA6E6-DE8F-4FD5-8880-F774BEE2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DB930F-7A0D-43C6-85A3-FE408C57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C8CA94-A602-4409-8927-7B9B1F78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4CA992-0A6E-4723-BD9A-432E79AB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9F57A8-71AF-4609-A499-76ECB89D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E82453-C1D5-4533-A801-61DE53AE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A553BB-AF5B-4D49-976D-7CB9BDD20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49E3-80C5-46DC-B7EC-B5A8B725F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B514E7-8868-4366-96B4-038A72E56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5BC75-85CE-44E7-986B-A0C6A4D2F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9863B-783F-4A2F-AAD9-F6F1CC50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AB473-7BF4-4F2B-B612-1432060F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10A68-BFB5-44DC-BA6F-E008CC2F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F9915-CE7B-414B-9B87-82510CF4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74F9E0-4B31-4DCE-BEC8-0DBCCAEA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2D33A7-F522-4947-92F6-26B873EF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A03A6-B0BC-4EFD-B263-26D65751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B1045-EEAD-4DFD-B0C6-66049E6F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76A8-7653-45C3-A53C-70AB105E7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D1245-2CA0-4212-841C-78BBDBC8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2DD01-FB48-4125-B813-EE182A05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3C1B1-BD9C-40B8-A820-96F1ACB7B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5A66D0-CF53-469A-A79A-9E612F500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BE0B0-BCAA-4D2F-896C-1E0A5C4A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616526-6A02-4C13-8F8D-97A99E2C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FB1E9E-29A4-4F17-8EE4-B0FF96A4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ED9C17-6EE6-473E-A8AD-F369C3BB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8C51D6-7B8E-4A8C-801D-8712B6AA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0821C9-1E0B-4E17-A8CE-1F1A6D0E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53F2-123B-4D24-AF3A-FA862884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F375FE-A27F-4A47-A895-1084EB45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0FC6D-AF88-4A3F-8BA2-7158466B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307549-7C86-4948-972E-713E0F86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5370D-DBA4-4912-A26B-E38D9A640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B1320A-EB8E-40FF-81EC-327C9694C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398B-F7D3-40B0-8FE2-763F0FC4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C361-8E1B-40F5-A4EA-FC1692BF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FDA9-B5EA-4366-A69A-D912CB22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847B-AE88-438E-BAC7-B5C4F373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11E0-43EE-4EF1-9684-6F44D74F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6EC5-CABB-4B45-9B8A-8675DFF7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6DD8-5DFA-4064-A657-963FAA46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C6B3-C511-4311-9134-3BDC714B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BC28-57C1-4F25-8CE3-399E33D1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6B5B-039F-4045-A08D-284981DC6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4A9A-29AB-42C7-A0CA-1341B4623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E4AE8-4760-4FFE-A41B-127ADB64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0467A-FB2A-4AE8-BFD4-183122D0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D9D20-43FC-45DB-9838-4CAB46F6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2CF17-7B36-4B5A-A226-B1569A47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54883-55D5-4FC7-8D37-669AF19C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1B6A-A87C-4088-A1A4-740D37CC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DB33E-632C-4DBE-AC06-C89FE6B2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6AF05-2FD1-40E2-8B79-E7BF79C4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B2B30-4A08-4072-AB4B-130C008C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DF97D-9F7E-43C0-9592-E88ECA7E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52638-557B-4DC5-8C13-AAB39C29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CDFFE-588C-47BE-84C1-E498728A0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A75F8-34B6-4406-9909-7785B663E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FF01C-DA26-4757-A7AD-5F8D8B67E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C703B-674F-422B-BC5C-7651BDE7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03400-F74A-4CDE-8CDC-9C32A214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DE8E-19AC-41BC-9347-B4FC7752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692B4-249D-4038-9457-E96DB228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1E36C-E9BD-46A7-A497-0FDB3850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83F2D-CEEB-4A98-A073-734609D4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1BC0B-BF48-4B20-966D-C00FD652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2ED90-9AC4-4E44-915B-D9E14178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6F842-5C4B-40D0-B639-85B0F0D0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966CB-E2DE-40AF-9D4D-3DAF370C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22FB3-B42B-4176-9C16-1E68D51C5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7397C-15C1-450B-B8A5-2BA6A778A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268455-49BB-4E1E-90D9-1D4A5B8F9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8210-64F7-4A7F-A4FE-25613692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72442F-11C2-4B70-A7EA-3E79E6FF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18C9AA-F7CA-484F-94B7-01AC905B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974657-E63A-4E37-8D78-745C8CE3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37BA8A-3E5D-46B7-85A3-C4F0BA76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5ADC25-2CE2-48E4-9DE1-2B327293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7FBCFF-2DC6-428D-BC20-71234ABE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B2780D-7812-4184-922D-C74DA232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714394-E015-40DC-B359-956FCC43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B46C09-3064-4DB6-A96B-6CD69A03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2DF3A1-B2D9-4455-89BE-67E540BB2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DE9B-3B19-4314-BF1B-05F48D1B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3B2E64-3777-43EC-86D2-FEB5CACCB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454F0-CFBA-40DF-8D3E-AB742C37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93B45-3A81-4C11-AA53-4CBE29FB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C4AA2-F067-45BA-A394-21A5DACD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50EAA-1213-4B23-8E54-6B33830D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A7308-2540-49AB-AE61-878746AE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C01E2-4203-4258-AB3C-45EB9EAD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72311-04B5-486A-B1C5-9FB68453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1C2F1-3176-401C-A447-99538EBC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9F8C7-C339-4612-A8B5-1978FB90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0078-D374-4CB8-9C9A-3F45FC31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F7342-174F-423A-AC0B-408E1BC0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F341F-4626-4B4D-B26B-57958B5B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ECF86-C08A-4F8F-A374-AB5B3369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897D2-A51C-4794-84B4-A7A2A9FDC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81BC4-8A6C-4790-9A8A-E327C3B2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F1606-E6C9-4080-BA90-B0065948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0B591-5AB3-4EA0-B18B-5BFEC440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78CB0-6044-48D4-A488-8CE89DDB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46437-F72F-4138-A678-4DB03E0C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66558-64C8-413C-B832-E1D158BD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F341-7616-47BD-8DC4-D0841CB3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FB603-FC5B-4F06-853C-636B54ED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041C8-6C56-4CD4-AB93-C60F6C1E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039A2-B2B3-4489-BA7F-C8BB3F80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9E58A-F048-4B27-8232-E17E13D3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D9F03-EC90-4571-B74B-FBCA280BB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08711-5D1D-4E2D-A998-86FD249A7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C9C91-B0FA-4451-81CC-DF0AC8B4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CE5D9-4404-48A0-BEC5-0828C3F9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77457-44DE-4256-BDC4-9452C2EC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2E8A5-F705-4E00-93D4-F7FAD3E1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5088-601B-433C-BD67-37DE7B53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292A2-C77B-4904-999B-575D87DB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DF5CD-FDC3-47A7-80EB-5FA8521E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B72D8-AD50-48D3-954C-E3A8F697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A2ED7-53CB-4BEA-A7BB-78A822EF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3DE01-8F24-4CC6-92C1-57425134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BA60A-5588-4A06-9EC8-76CCA8A3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3D9B1-5D2B-4C7B-9DF6-D4DB2D62C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9BD0F-A922-4DD6-9B36-82D10484B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03727-3801-477B-A888-B70A8656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56D56-D1A4-47E5-BD9D-168125CC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5FD4-F750-4FAC-B206-FCF16958F6E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5992-0516-4363-A345-C927B5BCF3D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BED4-919A-4364-B4A5-65B50E68E62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FF90-DCB0-4C6E-9242-33C53246B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14E6-97C3-4DA6-A1E9-43930D886802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0E2F-35A2-41F9-A05F-CA10157E450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529A-38A0-4D6B-AC93-40077A4C8F6E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BDA9-547B-473D-B964-C2D15C3B7CD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1BE6-562C-4E93-B93B-0689A18FFCC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61CA-4D8E-442F-8550-AF9B6C64740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B08A-9112-47AE-993C-908809AD11F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6303-4F63-47A0-B768-8DDE25637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6730-9F53-45C8-901C-4CC958DBE71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C77C-81D8-4244-BC34-5A5CB691A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1709-97C3-42E6-961D-2CF871C1CE9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4FCA-AC50-4731-90FF-FC064CE629E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0F8B-6018-4B01-8E66-526315C9C4F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3301-AA2E-4A8F-8A28-7CBB2192821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146D-1539-406A-971B-5B345DDB51E5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3095-01A7-4134-B7C6-BE196ABA97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201F-9933-48FD-8532-3B4B90FC681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8E99-495D-4B39-B42F-A78C0526FA4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98EA-00CC-4BFF-B746-20EEB05E80F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7C0D-1D62-41B3-85AA-E36A5399B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CC23-D2AD-42CB-B824-E9858D7F813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16F81E-82AA-47C1-80D8-2163DEB0791D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D5F10-8947-4724-95FD-BA5D972BEE9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0AE5F462-D892-4E81-A227-1068A4214309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29" dur="123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30" dur="123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3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32" dur="123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3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8BB23-A240-4C3E-B2E0-EF0A558D2E0E}" type="slidenum">
              <a:t>3</a:t>
            </a:fld>
          </a:p>
        </p:txBody>
      </p:sp>
    </p:spTree>
  </p:cSld>
  <p:transition>
    <p:comb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CAF138-2158-43E8-A6AA-87C08DF19C9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410B993C-908D-4577-A6DA-EAD68163EF74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3EB47-2971-49B1-8FF6-D860A43EE12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7BBA8FA9-1C4F-4CAE-AB09-2956B40A7F80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70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8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9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CF58E-DD72-43DC-A4AA-1D24A4DD801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2CD48BBE-E6B4-4D4C-AC77-8C1CC50D44B8}" type="datetime1">
              <a:rPr lang="en-US"/>
              <a:t>07/30/26</a:t>
            </a:fld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