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B580E-32A3-470B-BDF2-6C226EFD6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1C430-B327-4B44-A048-60362BC61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C8609-04E2-4D72-BBE2-C011E126C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49765-7296-4301-9A5A-4AAF2775B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91238-9868-4863-B20B-0DD4B5E1E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D9EFD-C3A3-4F43-BB1B-B65730A6E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31A9E-0A6B-45A5-A394-2898C390F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A5F76-3989-49B9-9D78-6F3A0D28C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169DD-B0DA-4293-8848-4231B1F9D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30598-8526-4395-92A3-88914AF72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6E795-D4E0-4620-9CDD-F898BBCD3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29250-903D-46BC-973A-7365AF76F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5A9CC-84B7-4EF3-8F92-E6BD831CE4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Math 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4343400" y="4114800"/>
                <a:ext cx="7714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∈</m:t>
                    </m:r>
                    <m:nary>
                      <m:naryPr>
                        <m:chr m:val="∰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1:09:10Z</dcterms:created>
  <dc:creator>Oliver Craemer</dc:creator>
  <dc:description/>
  <dc:language>en-US</dc:language>
  <cp:lastModifiedBy>Oliver Craemer</cp:lastModifiedBy>
  <dcterms:modified xsi:type="dcterms:W3CDTF">2005-01-06T11:09:21Z</dcterms:modified>
  <cp:revision>1</cp:revision>
  <dc:subject/>
  <dc:title>Math OLE</dc:title>
</cp:coreProperties>
</file>