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5AC-2DB3-47F4-9F23-59331171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4DE-8A24-475D-AE1A-41E70C80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09E28-CB39-4999-82A1-DF1D716B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35055-F921-47CF-8BF4-18D3AB50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C1C0E-F97D-4A88-B511-2C591679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5D5CC-4353-4535-8E7D-6F1616A8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694A7-AE6E-4EED-8359-80C6E18F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75CD4-6DCF-4F0C-8A69-70AF4CED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5676A-C3E2-4EA0-A89F-3138FD6E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D534E-5046-431B-9064-7F2485DE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1A730-9F1B-434D-8FE7-EF1550DC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B41299-3612-446D-94B8-A6EA4D88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981-6239-4AF3-AFE9-379A8CF4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0D5720-223A-4A59-A499-836F2663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CACBDA-FED5-4586-8B75-2F33E37C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6C9DD1-2488-4C1A-922F-281A4FEC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21216D-F9E7-488B-AE78-B21CF6AF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F1743C-7945-44AD-B28E-3E379BF0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20E44F-3639-4DE0-AE4A-120BF578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886FBE-D162-475E-B101-2E4F69A9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185D53-1934-412E-BD5B-31CEDD17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48EC8C-4AEE-46E6-B7A7-7904063F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8DC9D2-4C9F-4EFE-BE7E-DA9D916C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5E7-903D-407B-88C5-23D0779F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2A6F39-8D6B-43B5-93E5-72C8E036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79F18-7836-4D90-8C54-00AC9DBF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5DC82-DDC8-472A-AFAB-8D9E7F71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22CB2-C1FF-42CB-A7D9-EC5271FD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587E7-0958-4523-878D-71A37062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C3AE9-44B9-4341-9DD8-D81C504E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4A247-A1A7-4F1E-A489-CAD2B0CF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2A460-75E6-46CF-94CD-2308744B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E900C-7EF7-4068-908C-C3DD4759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20B8C-EDEC-4EEF-8453-85C01072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CB13-0545-4C42-AB7A-9A412764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BCEC3-7CF8-4329-B10D-98694DDA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06153-D9BD-48BF-AEB3-06F4D51E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05E56-474F-4962-80FF-540B9FAD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5392E-9BEE-4CA0-BCCF-4AFC96C0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C091B-F920-4CC4-B9F8-9CF4A462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38172-0D74-42A5-8ADA-C9480444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A402D-02CD-486F-93BB-570D20EB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C6862-F7AE-40FF-BE7A-22666B86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92504-EB39-4327-A7A5-070362F5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D1401-2DFF-4FF9-9505-45E8D1E2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12D2-D063-4F90-B1B5-F37C2EB5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0E5E6-222A-4D49-B06E-85C4099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A3C8F-9522-4250-8A3D-4A4EE03B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40160-AD17-46FB-ABFC-0516230B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82E71-0FA9-4211-91BD-BABBF3DA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8E086-CCC5-4A41-A367-7003ACC0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0A21-D5CB-4AE8-9173-69612E6D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3FA8-8947-410B-B088-4040E22F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9BB7-6116-421A-9B3A-1B8B0CF2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1D9B-472A-41A3-A162-2F4CA2DC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DA2D-E142-437D-A249-2C73803F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E22-98D2-4AD3-9930-A4251DBE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BD38-B998-4DB7-8CE7-46BC168D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698D-480D-4918-92FD-80487500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CE34-7131-4871-8706-B5365D95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0A75-DEAF-4350-BED1-42B13614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94A3-33E9-41CD-B995-281D28EF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3A4D-7844-43B5-81BB-046A336B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BBF9-1EBB-4617-A7DA-E54E2C23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CF26-AFC8-48F6-86AE-59DA0025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DE11-DECE-4C0C-999A-B33E1E25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213F5-1A81-45E6-AA0D-51DDAECD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D40-F0A8-4E4A-8E8B-B2CBE222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8D2ED-8A6F-46E6-AAFF-5D4B153D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1FDAC-CDC0-4A25-8C5F-22DC7D3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D8198-FF54-43E8-8095-DEF53A58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07CC-675E-45D8-9854-1439BCAC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5181-7817-4847-A08E-249CA834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90A0-AB4F-4A17-B47A-EB9EE45E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31E52-FF5D-4835-9E18-A887F9E7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0042B-84E3-45AB-A066-7DD1E0AB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23056-D14B-429A-8551-AE14C81C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B1BD-5941-499C-AE1E-CCB06681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BA7-8A93-4DDA-AFF9-A156D475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948A7-7D34-4AB2-B3DD-6BB8C969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01BD6-4260-4FD1-8958-B93041EF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11CC7-9844-4D7D-B115-7B4E0ED4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450E-A016-48FC-AD14-C27C4BB5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8D990-8437-4C13-B272-F88BA43B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B5F5C-9877-4006-8BED-B52EAF6A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38CBE-BD7F-4E31-8B46-2C6327F2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817A1-CA58-4D1A-BD10-252545C7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1E079-1416-43C6-B351-01821ECE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2BFD70-3701-40B0-BEA6-8A81057B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F5F-10ED-4B6E-ABCA-10A0311B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AF88B-CEAA-4922-B09B-7B22A51B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88DAA-E1C4-4AF4-9847-72E86AE2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1FC67-B10A-4237-BFF0-0A71E0F7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BEA4C-0BC8-4203-9E62-4C722668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20D5C-9A9A-47D2-B9E5-214FBEE9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2870B-A2C9-4619-AA58-C19E9E4A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24002-F973-426E-BB99-9390B8DB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DB2F7-DCE9-468A-B89C-6F0B231B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EC721-F0D8-48D0-9945-1DCFA593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55A4F-ACE1-4BEC-884F-FDB1B1CE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15A-E007-43A9-806D-35102397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3D474-404C-463F-9F99-1B938102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52D23-0AB6-4A0D-A99D-A019A856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83089-EEDC-4C11-ABFF-A2150E87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E1ABB-B10F-4002-B5BF-90C879B7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468CD-090A-42CE-BCB3-35079D59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4D177-E2BC-48F4-8804-EB397836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ED8A-A937-4864-A3CA-6F4FFE66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03F70-B9D0-4C8F-BC17-C50FB3DA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25484-E756-4BF3-8362-ED66DBB3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CA76B-8EA5-4DF3-9BC8-83A356B7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1D1-FABF-442B-95B1-37181896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3BFEE-8D78-486C-AC1C-9535FC0C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0ED3C-F1CD-4FF5-9161-BB1B503F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EC918-9D0E-462B-A0AD-9543A9BD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EB940-D5F3-494A-B841-6F873129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60ABC-3F09-498D-9B70-ADDCFF28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D6950-77BA-45B9-9BDE-F64CB335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E6E15-E913-4919-847C-753C7838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3E2B0-45C0-49FA-9B2B-3E17A1C2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D1CC4-12C0-4A3D-BDF8-710C22FE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C3720-09BB-43DB-B68D-545DDE8E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2FA-FEBD-4DA3-9708-7995D25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67338-8ECC-4029-97CE-C93C33A5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2509E-46EB-4974-A01A-388F9BB9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BD856-42D3-4313-A49F-41793A7C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D9943-9AE7-4076-9BCA-F2972F8E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5014E-B760-4014-93CF-901E3C32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01945-6A8C-486A-959F-36C4903F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AF330-3816-47D6-8EDD-F807636D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13572-6BED-46FE-B656-1D3EA2F5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B6837-2DEB-49FE-A353-B2111CCB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9E824-77AA-46E6-9B86-9B16E8A5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C9A-6C8F-4652-902D-2903D3E9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27456-9F39-4ED0-A001-8FC9B289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A63E1-A896-4DFB-AE68-BE686776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5B480-460D-4D3B-B641-B6F95F0E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C5048-1586-4D0B-A33D-B061DC35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1BA37-B6F7-4A91-A469-C44F6C0C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D384E-09D9-4758-BACD-A1377699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B46CD-5682-40ED-8FD7-A5806917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0CAC7-1583-4ECA-B52F-D4E8999B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E7C1D-7C15-45AB-A776-750ECC20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F7A20-2D9F-4582-ADE7-1BC59F3F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A5AD-0A19-4574-A60C-B4099468306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E574-0599-4DCA-B3AB-F72C98AF57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680F-C895-4B49-AF22-DEA571418F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7EF0-2497-4334-8DCC-5AAEEA018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B4C0-2B78-4F51-AB44-CD9D23AF31D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479E-880F-4982-B96D-D43C18DD1DA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3AB8-6BFF-44B0-A22A-784C835F34C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1CFA-148D-4670-9052-BF1E2B0BDE1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B04D-224B-44AC-A752-A723819D0A5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3FD8-0189-4CA8-9BCA-95387AF39D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02C3-7394-4257-A78C-09C47DE63D2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A4D7-B170-440C-BF92-C834436E7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F742-978F-4055-A698-95FD63FEF51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7817-7F61-4387-AE41-96C430057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7A98-6D04-4524-A8D4-72D3636DFB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34E8-A110-419C-B47D-CFB55592D75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0256-6229-46CD-9E9C-145D974B600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0AF0-2909-4D3B-A4F1-FB42B398290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2757-587D-4A68-845F-AF67538FCA4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50CB-8CAC-45A8-89AC-6811A39B4E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64EE-7A1C-49A7-9D88-71271933FE0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19C1-B5D1-42FE-9D57-08F4C82529C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F182-E4DD-4733-AB3B-F347AB13F46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5BA8-82E4-4C0D-9267-39C1BE0D4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AB5-62F3-4E28-B1D7-80217F9EDB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9D42D-80FD-499D-A249-9C6F7F5D996C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2DC4F-DB58-4538-8E2B-B142A85500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53E821D8-E8E1-4385-825C-F6BE4BD5E5D1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E5A2-F7A2-4D3D-80AE-105CDDC73C82}" type="slidenum">
              <a:t>3</a:t>
            </a:fld>
          </a:p>
        </p:txBody>
      </p:sp>
    </p:spTree>
  </p:cSld>
  <p:transition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5706E-DACC-46BD-A431-2F4A83354DB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5A18236-416D-483C-941D-063D00B2E546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71E53-01FC-4534-90E8-A84BEDFA86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4F25B49-F626-452E-BB8B-87172939C433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E2E89-FD05-4B7D-B551-60922C75DC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7B17F1E-10A8-429B-BE84-338B4CEE8339}" type="datetime1">
              <a:rPr lang="en-US"/>
              <a:t>07/29/26</a:t>
            </a:fld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